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4198-CEA9-4304-BE5E-823AD2B4C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C9BF-DE6F-48F2-A7BF-070DEB6CA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ydroponicsequipment.co/plant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CFCB-D7A8-4B22-986C-7B1EE4EB2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xtremepapers.com/revision/gcse/biology/reproduc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BACA-FDA9-4187-BC08-6F4AF3521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2geneticswikib.wikispaces.com/Sexual+and+Asexual+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rtchat.com/info/propagating-kalanch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7DE0-B11E-4AE6-A9E0-3C5CD16CE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5E01-FCFF-4B47-A832-5D44837A2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A/AsexualReprodu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 tree image from: http://www.theresiliencyinstitute.net/fruit-tree-graf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re interested, a lot of information about growing apples &amp; why grafting is used 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ardyfruittrees.ca/tutorials/2014/01/16/why-are-fruit-trees-g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CC5-B23C-4A67-9740-82ECBA6A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FA5-5BEC-468D-8584-5C56E783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59C-D64A-4426-B227-F0B7224A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27B-8671-40ED-8C6E-14301C3F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86D-BE65-48FC-AAD8-40EFA506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9FF-1F03-47DE-92E5-6BCCCDC1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E43-B43E-48D3-B2EA-317F2619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E5D-C7BA-4706-A3D5-12BE8E49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469-C1EC-46DB-B592-F7B254AE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795-91C3-491E-B36C-B9CF5C7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3FA-F7B7-4267-92D7-737F38AF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620-45FD-432A-B83D-7B431FE5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62EA-7528-4374-81D4-47632104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exual Reproduction in Seed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 plants reproduce both sexually &amp;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use structures on stems, leaves, or roots to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 grow through mitosis &amp; cell division of existing cells, so offspring are c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sexual_reproduction_in_potato_plants"/>
          <p:cNvPicPr/>
          <p:nvPr/>
        </p:nvPicPr>
        <p:blipFill>
          <a:blip r:embed="rId1"/>
          <a:stretch/>
        </p:blipFill>
        <p:spPr>
          <a:xfrm>
            <a:off x="693720" y="609480"/>
            <a:ext cx="7755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creen_shot_2011-11-30_at_1"/>
          <p:cNvPicPr/>
          <p:nvPr/>
        </p:nvPicPr>
        <p:blipFill>
          <a:blip r:embed="rId1"/>
          <a:stretch/>
        </p:blipFill>
        <p:spPr>
          <a:xfrm>
            <a:off x="685800" y="1554120"/>
            <a:ext cx="77724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parent plan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less energy &amp;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rental traits are well-suited to environment, offspring will also be well-su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lets survive better than seedlings from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genetic divers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entire population being wi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t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produce new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f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ranches of trees onto other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ssu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reproduce orchi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2" descr="300x200xprop-kalanchoe-300x200.jpg.pagespeed.ic.TT8zDQ4tvU.jpg"/>
          <p:cNvPicPr/>
          <p:nvPr/>
        </p:nvPicPr>
        <p:blipFill>
          <a:blip r:embed="rId1"/>
          <a:srcRect l="19136" t="0" r="1913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5" descr="Grafting.gif"/>
          <p:cNvPicPr/>
          <p:nvPr/>
        </p:nvPicPr>
        <p:blipFill>
          <a:blip r:embed="rId1"/>
          <a:srcRect l="0" t="-18691" r="0" b="-18691"/>
          <a:stretch/>
        </p:blipFill>
        <p:spPr>
          <a:xfrm>
            <a:off x="611280" y="549360"/>
            <a:ext cx="3884400" cy="55465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6" descr="dwarf-pear-tree-2-types.jpg"/>
          <p:cNvPicPr/>
          <p:nvPr/>
        </p:nvPicPr>
        <p:blipFill>
          <a:blip r:embed="rId2"/>
          <a:srcRect l="15610" t="0" r="15610" b="0"/>
          <a:stretch/>
        </p:blipFill>
        <p:spPr>
          <a:xfrm>
            <a:off x="4643280" y="549360"/>
            <a:ext cx="381492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1:15:55Z</dcterms:created>
  <dc:creator>rubina khan</dc:creator>
  <dc:description/>
  <dc:language>en-US</dc:language>
  <cp:lastModifiedBy>rubina khan</cp:lastModifiedBy>
  <dcterms:modified xsi:type="dcterms:W3CDTF">2016-11-28T03:37:47Z</dcterms:modified>
  <cp:revision>47</cp:revision>
  <dc:subject/>
  <dc:title>Succession</dc:title>
</cp:coreProperties>
</file>